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507-252B-492C-BE8B-0DE1E61B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E0D-245C-46E2-97F4-AF277ED0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EF6-F77E-430C-B859-490F854E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040-0D7C-4FD9-93FB-2D7EE9A9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6D2CE-C07E-44E0-A885-BAEFC38C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67BD0-5E15-4A88-8024-804E3E51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CB57F-2936-487A-9997-58B9164C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16F5D-FCE4-4E29-9A7E-51C7300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5AD8D-E433-4AF4-AD9A-E6E862D2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78628-DCF6-4CA4-B6CB-449B7ED5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0DA54-F42C-4080-9C5E-EE5DCCE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F73-661B-4A58-B0DA-B80BB1C1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7F5FD-DFFC-47B7-9186-9CEFED29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F42EA-625B-46B1-95A5-C5326C97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ACC65-AE17-4C7D-BE54-1EC33B1D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32BCF-E87A-4435-BF60-6386710A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B0099-68CE-4ADE-ADB0-484E9D3D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242-6705-4216-8701-C48D8819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7DA-674B-47B0-8985-C1F69816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190-DD92-41C9-92C8-950AD7B8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E4B-7385-420E-AC64-CD3E8EA4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6A9-808D-412F-BBB6-FC1815C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1B9-7DDC-4C84-9052-CDD23251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675-3470-449B-B48D-B4F09A6A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1E9E-ECE7-4636-AB4D-4A95D1264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F602-EF88-49A3-9717-54642B761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rincetown LET"/>
              </a:rPr>
              <a:t>First W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rincetown LET"/>
              </a:rPr>
              <a:t>By Teddy Harr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rincetown LET"/>
              </a:rPr>
              <a:t>Important Facts of Paragraph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9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rincetow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rincetown LET"/>
              </a:rPr>
              <a:t>The Maldives, a chain of some 1200 islands in the middle of the Indian Ocean sits about 700 kilometers southwest of Sri Lan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rincetow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rincetown LET"/>
              </a:rPr>
              <a:t>More than half a million adventures each year. They come to scuba dive,surf,fish and cruise in picturesque atolls known for white sandy beaches, crystal-clear turquoise waters and coral reefs teeming with tropical fish of rainbow color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31:28Z</dcterms:created>
  <dc:creator>PA Department of Education</dc:creator>
  <dc:description/>
  <dc:language>en-US</dc:language>
  <cp:lastModifiedBy>PA Department of Education</cp:lastModifiedBy>
  <dcterms:modified xsi:type="dcterms:W3CDTF">2009-05-22T17:40:08Z</dcterms:modified>
  <cp:revision>2</cp:revision>
  <dc:subject/>
  <dc:title>First Wave</dc:title>
</cp:coreProperties>
</file>